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FD5-AC57-412D-9B05-962207C8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17F-E274-4F74-9572-8093456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901-9ABE-4616-9471-EC1F4C28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F9E-A5C7-4062-AC3E-9DFB991C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4A0-B614-45AC-B916-ACD045B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45A-45F3-43CF-8790-2E774F2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9C8-D450-4843-93F3-FAED3AEB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FD1-E8EB-4794-B294-D4BBBF88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7BD-17EE-46AD-9894-01B4E481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A4F-09BE-4698-A4F1-5C973AA0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316-792D-4FD9-AD2A-C07CE9C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7E2-564A-4E11-BF00-011FD3B9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35E-F42D-4AD5-A734-9EA366B1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5520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dition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ditional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Writing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819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obtuse triangle has exactly one obtuse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1800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triangle is obtuse, then it has exactly one obtus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402264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dentify the hypothesis and the 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0988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n obtuse tri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as exactly one obtuse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Writing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8940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n animal is a blue jay, then it is a b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876840" cy="281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5484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val represents the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val represents the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the sentence “Two angles that are complementary are acute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95144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angles are complementary, then they are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3352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dentify the hypothesis and the 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2767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wo angles that are complement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re ac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9810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nditional statement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ruth valu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either true (T) or false (F). It is false only when the hypothesis is true and the conclusion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how that a conditional statement is false, you need to find only one counterexample where the hypothesis is true and the conclusion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Analyzing the Truth Value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819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his month is August, then next month is Sept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84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hypothesis is true, the conclusion is also true because September follows August. So 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Analyzing the Truth Value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35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have acute angles with measures of 80° and 30°. In this case, the hypothesis is true, but the conclusion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819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wo angles are acute, then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937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you can find a counterexample, the conditional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C: Analyzing the Truth Value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7616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ven number greater than 2 will never be prime, so the hypothesis is false. 5 + 4 is not equal to 8, so the conclusion is false. However, the conditional is true because the hypothesis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743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an even number greater than 2 is prime, then 5 + 4 =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828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conditional “If a number is odd, then it is divisible by 3”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19824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an odd number is 7. It is not divisible by 3. In this case, the hypothesis is true, but the conclusion is false. Since you can find a counterexample, the conditional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457200" y="2362320"/>
            <a:ext cx="7854480" cy="1282680"/>
            <a:chOff x="457200" y="2362320"/>
            <a:chExt cx="7854480" cy="1282680"/>
          </a:xfrm>
        </p:grpSpPr>
        <p:sp>
          <p:nvSpPr>
            <p:cNvPr id="119" name=""/>
            <p:cNvSpPr/>
            <p:nvPr/>
          </p:nvSpPr>
          <p:spPr>
            <a:xfrm>
              <a:off x="463320" y="2819520"/>
              <a:ext cx="784836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the hypothesis is false, the conditional statement is true, regardless of the truth value of the conclus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236232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2438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g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statemen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“no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”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~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 negation of a true statement is false, and the negation of a false statement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371600"/>
            <a:ext cx="8153280" cy="4114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termine if each statement is true or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measure of an obtuse angle is less than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 perfect-square numbers are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very prime number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y three points are copla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81320" y="350424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6000" y="403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67520" y="456300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2880" y="505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1828800"/>
          <a:ext cx="7772400" cy="207972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conditional is a statement that can be written in the form "If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then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09480" y="1828800"/>
          <a:ext cx="7772400" cy="2079720"/>
        </p:xfrm>
        <a:graphic>
          <a:graphicData uri="http://schemas.openxmlformats.org/drawingml/2006/table">
            <a:tbl>
              <a:tblPr/>
              <a:tblGrid>
                <a:gridCol w="5334120"/>
                <a:gridCol w="243828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onver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s the statement formed by exchanging the hypothesis and conclu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1828800"/>
          <a:ext cx="7772400" cy="207972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invers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s the statement formed by negating the hypothesis and conclu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~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09480" y="1828800"/>
          <a:ext cx="7772400" cy="2444760"/>
        </p:xfrm>
        <a:graphic>
          <a:graphicData uri="http://schemas.openxmlformats.org/drawingml/2006/table">
            <a:tbl>
              <a:tblPr/>
              <a:tblGrid>
                <a:gridCol w="5029200"/>
                <a:gridCol w="27432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ymb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ontrapositiv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s the statement formed by both exchanging and negating the hypothesis and conclu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~q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~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57200" y="1752480"/>
            <a:ext cx="4038480" cy="459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late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verse, inverse, and contrapositive of the conditional statement. Use the Science Fact to find the truth valu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B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90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f an animal is an adult insect, then it has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39960" y="3276720"/>
            <a:ext cx="50180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B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33512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Invers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f an animal is not an adult ins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t does not have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2009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verse: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If an animal has six le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is an adult in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Verdana"/>
              </a:rPr>
              <a:t>If an animal is an adult insec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t has six leg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25898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other animals have six legs so 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48754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trapositiv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an animal does not have six leg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is not an adult ins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71356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ult insects must have six legs. So the contrapositiv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41900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other animals have six legs so 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219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verse, inverse, and contrapostive of the conditional statement “If an animal is a cat, then it has four paws.” Find the truth valu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2680" y="297180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f an animal is a c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t has four paw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367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Invers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f an animal is not a cat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does not have 4 paws.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9040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vers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</a:rPr>
              <a:t>If an animal has 4 paws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t is a c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51800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Verdana"/>
              </a:rPr>
              <a:t>Contrapositive: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If an animal does not have 4 paw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t is not a cat;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2680" y="144792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f an animal is a ca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t has four paw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4069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other animals that have 4 paws that are not cats, so the co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265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nimals that are not cats that have 4 paws, so the i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094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ts have 4 paws, so the contrapositiv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4382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ated conditional statements that have the same truth value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gically equivalent stat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A conditional and its contrapositive are logically equivalent, and so are the converse and in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80880" y="2286000"/>
            <a:ext cx="7854840" cy="1287720"/>
            <a:chOff x="380880" y="2286000"/>
            <a:chExt cx="7854840" cy="1287720"/>
          </a:xfrm>
        </p:grpSpPr>
        <p:sp>
          <p:nvSpPr>
            <p:cNvPr id="155" name=""/>
            <p:cNvSpPr/>
            <p:nvPr/>
          </p:nvSpPr>
          <p:spPr>
            <a:xfrm>
              <a:off x="387000" y="274824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logical equivalence of a conditional and its contrapositive is known as the Law of Contrapositiv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28600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905120"/>
            <a:ext cx="8382240" cy="2819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, write, and analyze the truth value of conditional stat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the inverse, converse, and contrapositive of a conditional state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352880"/>
            <a:ext cx="8686800" cy="50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each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triangle with one right angle is a right triangle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 even numbers are divisible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termine if the statement “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44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2”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84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: A number is ev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: The number is divisible b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640" y="26812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: A triangle has one right ang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: The triangle is a right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2567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–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285200"/>
            <a:ext cx="79246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each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the converse, inverse, and contrapositive of the conditional statement “If Maria’s birthday is February 29, then she was born in a leap year.” Find the truth value of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1119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onverse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: If Maria was born in a leap year, then her birthday is February 29;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Inverse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: If Maria’s birthday is not February 29, then she was not born in a leap year;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Contrapositive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: If Maria was not born in a leap year, then her birthday is not February 29;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th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po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ly equivalent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4648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phrasing a conjecture as an if-then statement, you can quickly identify its hypothesis and 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477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each 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Identifying the Parts of a 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oday is Thanksgiving Day, then today is Thur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115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A number is a rational number if it is an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othesis: Today is Thanksgiving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038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: Today is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410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othesis: A number is an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: The number is a rational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75904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"A number is divisible by 3 if it is divisible by 6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hypothesis and conclusion of th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othesis: A number is divisible by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: A number is divisibl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47560" y="2665800"/>
            <a:ext cx="7848720" cy="1283760"/>
            <a:chOff x="547560" y="2665800"/>
            <a:chExt cx="7848720" cy="1283760"/>
          </a:xfrm>
        </p:grpSpPr>
        <p:sp>
          <p:nvSpPr>
            <p:cNvPr id="82" name=""/>
            <p:cNvSpPr/>
            <p:nvPr/>
          </p:nvSpPr>
          <p:spPr>
            <a:xfrm>
              <a:off x="547560" y="312408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t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can also be written as “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”   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”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mpli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,” and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only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3600" y="266580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5146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entences without the word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written as conditionals. To do so, identify the sentence’s hypothesis and conclusion by figuring out which part of the statement depends on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6:51:01Z</dcterms:modified>
  <cp:revision>85</cp:revision>
  <dc:subject/>
  <dc:title>Slide 1</dc:title>
</cp:coreProperties>
</file>